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A16-1A60-4889-95C7-CB79706C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A7B-DFEE-473B-A592-EC31A0A5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5B2-C379-4BAC-84B2-3BE70DB0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E60-5C0B-4CAC-A3BD-D9EDB83D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1180-A017-4032-8CA4-49D850DF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C9B-1F09-4FDA-A994-B1DAF980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299-CB6A-42D3-81FA-0E85E537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3889-D7B2-45DB-835A-E7E733D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B57-DDE7-4458-BB4A-0CC1CA80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83B-44C9-4C17-B6E1-817B930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805-101F-4C6E-883C-EBFD769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EE5-9F92-42BB-B5C5-B63F74EE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61BD-D9CD-418E-AB2F-93C94F38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42A8-F330-41D1-8491-89A9754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A53-7967-47B3-AB6A-815EEAE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2400-8BE8-4691-8755-B2307EB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149-B2D4-4C15-AAF3-83E94B35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E41-33E6-4884-AF57-7534DF39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FB9-3455-4E31-9AB0-2F3B9113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F92-8705-456D-AAFC-934D5EB4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025-B5BA-4BD1-BB0E-1C23DFC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88C-CB89-42EA-8972-217B1F4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65B-EF57-4619-BC8A-43B8856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F91-F402-4525-96C9-6BEA10B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891-B30F-4C4F-BD4F-63574C2961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2C6-2398-42EB-AFA8-5DAB8F1C3F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whphys.wikispaces.com/Renewable+Energy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Renewable Energy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Angela Paras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Ways of the Format of     ……Renewable Energy……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6248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4284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newable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 energy is natural energy which does not have a limited supply. Renewable energy can be used again and again, and will never run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tent of Renewable Ener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ferences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1960" y="160020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lean-energy-ideas.com/energy_definitions/definition_of_renewable_energy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art-isee.com/index.php?page=world-energy-consumption#Facts and Predi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16:05Z</dcterms:created>
  <dc:creator>User</dc:creator>
  <dc:description/>
  <dc:language>en-US</dc:language>
  <cp:lastModifiedBy>User</cp:lastModifiedBy>
  <dcterms:modified xsi:type="dcterms:W3CDTF">2010-01-21T02:23:27Z</dcterms:modified>
  <cp:revision>1</cp:revision>
  <dc:subject/>
  <dc:title>Renewable Energy </dc:title>
</cp:coreProperties>
</file>